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17E-BA1F-47B1-9A9E-3244A476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29ED-19D4-41ED-841F-2FF3D0ED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E7A-5194-4BE9-9A78-D810B783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7BE-2D78-4540-9812-8996354E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E9A-39A6-4136-A7E5-82245DA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32E-DCFF-433A-BA37-AE74074C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618-35A6-4C6D-90CC-2563ACAE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753-2743-43F8-A18F-907ADC3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9E9-8993-4368-A7E0-2689418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B87-3DC1-4725-9E4F-01380ED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E29-5614-4CB5-9ADF-2999A1C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53D-4F10-4DD0-9652-DE5B719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2DE6-782D-4F84-98C3-ED95E5A81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19240"/>
            <a:ext cx="3352680" cy="2206440"/>
            <a:chOff x="0" y="219240"/>
            <a:chExt cx="3352680" cy="2206440"/>
          </a:xfrm>
        </p:grpSpPr>
        <p:sp>
          <p:nvSpPr>
            <p:cNvPr id="42" name=""/>
            <p:cNvSpPr/>
            <p:nvPr/>
          </p:nvSpPr>
          <p:spPr>
            <a:xfrm>
              <a:off x="0" y="1875240"/>
              <a:ext cx="3352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Ich esse nicht Schokolade mit Alkohol, weil ich bin nicht betrunk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1760" y="219240"/>
              <a:ext cx="1793520" cy="1585080"/>
              <a:chOff x="761760" y="219240"/>
              <a:chExt cx="1793520" cy="15850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2320" y="377640"/>
                <a:ext cx="794160" cy="13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761760" y="219240"/>
                <a:ext cx="1793520" cy="158508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1108800" y="430200"/>
                <a:ext cx="1157040" cy="1215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400800" y="225360"/>
            <a:ext cx="2286000" cy="2410920"/>
            <a:chOff x="6400800" y="225360"/>
            <a:chExt cx="2286000" cy="2410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770520" y="225360"/>
              <a:ext cx="18878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400800" y="2085840"/>
              <a:ext cx="2286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Ich spiele Fu</a:t>
              </a: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ßball meisten, dass ich muss fit halt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172200" y="2819520"/>
            <a:ext cx="2819520" cy="2302920"/>
            <a:chOff x="6172200" y="2819520"/>
            <a:chExt cx="2819520" cy="23029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477120" y="2819520"/>
              <a:ext cx="220968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72200" y="457200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Ich gehe nach Subway mit dem Rad, weil es hält mich stark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57200" y="2819520"/>
            <a:ext cx="2209680" cy="2379240"/>
            <a:chOff x="457200" y="2819520"/>
            <a:chExt cx="2209680" cy="2379240"/>
          </a:xfrm>
        </p:grpSpPr>
        <p:pic>
          <p:nvPicPr>
            <p:cNvPr id="54" name="" descr=""/>
            <p:cNvPicPr/>
            <p:nvPr/>
          </p:nvPicPr>
          <p:blipFill>
            <a:blip r:embed="rId4"/>
            <a:srcRect l="10052" t="0" r="11559" b="4153"/>
            <a:stretch/>
          </p:blipFill>
          <p:spPr>
            <a:xfrm>
              <a:off x="609480" y="2819520"/>
              <a:ext cx="19814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464832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aniel siest TV meisten, weil er faul ist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429000" y="59364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Cameron läuft denn er will einen Marathon lauf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479840"/>
            <a:ext cx="29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ch darf nicht essen Eis vor ich esse mein Obst denn Eis ist ungesu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422440"/>
            <a:ext cx="2362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ch darf viele Kürbis torte essen, Kürbis ist gesund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19:13Z</dcterms:created>
  <dc:creator>CUSD220</dc:creator>
  <dc:description/>
  <dc:language>en-US</dc:language>
  <cp:lastModifiedBy>CUSD220</cp:lastModifiedBy>
  <dcterms:modified xsi:type="dcterms:W3CDTF">2012-02-24T18:32:44Z</dcterms:modified>
  <cp:revision>4</cp:revision>
  <dc:subject/>
  <dc:title>Slide 1</dc:title>
</cp:coreProperties>
</file>